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44D-F1E9-4C44-8239-A8745746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47C-1B8C-4361-ADC7-D3201A73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36336-A756-4364-843E-B6BF1B67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FE1D9-22F2-4BB1-8C67-A08ACCFB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1ECDB-3156-4BE6-BF30-49F2EB44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64BB3-BCF5-4193-9845-C00F83D8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2E189-D8A9-45A2-98DD-87D8A754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E347E-FC1B-498B-B938-637321B0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BCB33-B210-4D7B-AD07-A4C83F1D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AAF40-7650-4CAE-A3B5-6CF972AF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09E68-A909-4CE7-B2D5-AD765CD2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F0FDF-4A58-4933-809C-48FDA83A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406-F09D-461C-8CC0-C0A87871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0EC81-2E05-45DC-A3DE-F535DA4E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022D4-6613-4B7D-A5A1-E30CF0FE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9C330-E1BA-4FA8-9E15-D95806D5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8840E-33E7-4E1C-BAAC-9EB9D737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621BD-E77D-46B2-BF22-5A9264CC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44234-6F19-488F-B6FF-10E7DF58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4774B-CE20-4BDA-82DE-C030E3F7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7A6CD-7F06-4F60-86DA-C31446BA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8993E-65B3-43CB-AFAA-7BDD4D3D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1FCAF-4201-4C56-9741-378106CD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279-3B71-44EB-B2BB-62A600C2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96775-C361-43EE-85C8-CD0F0159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2641C-7891-446F-A1CF-9963C93D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CE1F6-7C10-4F33-B7AF-6669C5CC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4AC7B-143B-40E3-8F7D-58C11607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3763A-B268-4578-9FFA-1036B535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EEC68-E025-4AE9-A477-6EC6C97A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FF563-61B3-4AEC-82F6-824177D5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FD649-E6B6-450C-9A18-41727CD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4FCB9-FA7F-401A-A786-F835D928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3E437-543C-48BA-9B1C-44B97694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6B38-FE40-4B87-8AF4-4185CFE4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A3D3C-2BB6-4880-BC4C-2B36B0A0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AA83C-D0D5-474E-9484-9FE106B0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C9102-518C-4038-84A1-1FD33931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C3C0D-5396-4916-A96F-8DDA13BF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28AE1-3D0E-4076-A572-AC4BEC42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DAEDE-D53B-49D8-BEAF-FA3A508A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575F7-95C6-42D6-ABAF-2585AA6F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BF960-B1D9-4E3B-A927-7D2E79D5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A3BC3-504E-494C-A071-670F067F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B1CC7-63A3-4B64-B7D8-11143063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2854-1105-4E8C-BEAD-7A2A5B97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A6439-B605-47A6-87A0-14E85361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9F76E-5C5F-4439-9949-9F6C3799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F1D23-D210-4BA5-BDFE-73958CA9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E6851-6B32-4BEE-91A3-2F17A294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0A232-25F0-4BFE-9D30-63F5C3E9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96250-F1FC-41F8-947F-43CABF19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1E997-CB56-4D6D-B1FA-42FE0369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0B015-FBB2-4B28-B697-E8A26C37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1EBA4-0343-494B-9A58-B0AE0974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21334-814B-4601-AC06-6AAD1C87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8F7F-56B5-4C28-B193-E8D748A4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4B8E0-4A33-4C2A-BE67-0EA73BEF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B5FBC-B5A4-4191-9D03-CAD180C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5BE54-A4A0-41FA-8749-2EBA8CA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DFAAD-8563-43AD-86DE-4EF80D65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25024-5844-4D8B-A9B5-F7D7C789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A9AE8-5D96-44B1-A053-DB4BEA83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1D932-76CB-4247-8D7F-52C09AA8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4B327-D387-4CBD-BB93-552EA6E0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CCBED-B867-4122-9254-8BDF47CB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4B99B-77D7-4689-8747-D04BD29F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A1FC-D1B8-4DE5-BF17-6FD8E10D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9A74B-2269-4CA9-A18E-43C91BAF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31ABE-DB8A-44FB-B177-0A3A8E2C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6B71C-616A-4602-8F32-CD61C51E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DE032-8477-4913-AE4C-DBEFB6D9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B1728-447F-4B12-A756-267DF099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D1B1F-EE38-4333-8289-3C337E51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59DCC-D420-4D01-8890-E266F2D6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3E5CE-87F7-4707-BD45-1DC5D0EF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8A8D9-D116-4A9B-B340-E3FF69B1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5D2EC-8531-4AFB-BBAD-95586CB0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1E16-60EB-4878-BD85-0E1CD5FE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78E1B-F6E8-4201-9E35-AF3CDCCC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59E73-4056-4285-B446-96EFA9C3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564FE-F11F-4C27-88C5-EB5A0C73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87B58-86E8-474D-9B2F-6B7288DC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0BDF97-A9CF-42C4-88E9-480AD677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0B79F-83CC-4735-BF9A-4628633A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DC287-5E7A-4761-AF02-786EC93F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75FB0-FDB1-4E14-BC76-D04A7F3A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B2312-EF6C-4715-A1E6-AB9D67A9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C9F33-106A-4202-AD67-F2EEC485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DDA4-8789-4BDF-AA57-52EAEC6B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F3EF06-31C6-45AB-8C03-1CC505EC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0B22B-8A1D-42D4-9604-C66F0F89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70490E-8245-4F99-A058-5162DA40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831E2-A064-492A-88C0-67C6CE73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DDA911-F7B3-4506-A0D3-6060863B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FFD325-6A51-42AB-8333-6FE9F27A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0BF7C-BCBD-4D42-8E95-01ED284A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D07A6-EBEF-484F-A814-42C98E8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EDF6D-6E78-4B8E-A283-C6639879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1675D-2178-4EB3-AD06-192242FC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FC67-E137-4855-8166-4BC09320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FE26D2-EE44-4265-A987-28C77608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5CA28-3F8B-41FE-91F3-FA1C02F0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571E33-579B-46E7-AB21-3FB49A7F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9E542E-41AD-4F72-92ED-5CDFEC60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CC391-7A58-4FFC-A687-10CFFA79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C5708-0477-4D81-ACBE-D988E101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244685-7922-4ABC-8D74-9EC2E9BC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D24FB-0DAB-4000-B482-C1E42247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77F19-C33E-42DB-A4BA-24CE298D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9E3F8-4E47-45F7-AB84-2A625F71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65E-C0EB-4D6D-B60C-2531C586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21D6-29CB-4589-8D97-0F254B3E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764F93-5686-4246-8A8F-899DB396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40F0AA-32CF-4F5A-9244-36B834A6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0A065-5EE2-404D-A0B3-813B97AE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8D788-E6CA-495C-A8DD-EB5B25E8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DAC47-6FAD-4725-BC3C-A461B29A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2B19A6-93A7-4E1A-86A3-30E32FB6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C47190-83FF-435C-8B31-CC5E912E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823F44-245B-49FD-A20E-58CA1037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CBA10-44D8-4068-86B9-4A89BB19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F3A946-84E2-49C4-9F38-CB37D5CA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ECCE-44A1-4A75-B59E-CC092A24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A5054-02B2-46B6-BBF5-543692B8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283059-65EB-456A-B172-7F7181A4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4B66B-2E7E-4EC3-BF18-2FF65A06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172ADC-3AC3-4BFF-AE6A-8A4160A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0BB8D-A644-43CB-9359-30E2F0B3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315BB-A9CF-4D1D-86D8-69BE860E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4D2D90-068D-4B5D-B9AC-46BD2E71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2914A-D4F4-403A-B773-7E9E2272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58DA03-6838-4E47-AE51-510C8E7F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1988B-0E35-4FA8-8099-CBA9F7DC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E899-A63A-4527-B1ED-7B520F7D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18EC6-0E7D-4BD2-8E47-6ECB8214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A7D235-ACEB-4BE3-AB90-9937CB72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9A7E0-5F56-4631-B6CD-1AA2E31F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13C1C4-78D7-413C-818B-507A7C0E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990211-6995-40C0-8B23-D559932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8AE6B-5E05-4DF8-8787-F19AA2D6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B43A1-0FFA-4BD5-B5DB-82AA7EBF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726F38-2EC6-4A8E-9A53-0F0E828C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161DC-6548-485A-9B95-14321E70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378CD7-2191-43DC-A529-9B50B28D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5957-C9A8-4AEF-81B0-2051D835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C1D7C-35EF-4CE4-8EAC-6DB66BB0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CD2CEE-E277-422E-979F-A2B243A5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7BDA8-4B9F-4536-B274-4A87F2A6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BBA440-2199-4631-9D64-334F511C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4D1A9-469F-4992-8415-CA4C8572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53ED12-2038-4BAB-BDF0-CADF8FCC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800E05-7C60-4242-8458-6E796BA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197E9-FE7E-42D8-8687-9141A2F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437E8-674B-431F-96CE-7DF7BB1E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007307-0EEF-413D-A171-94F0B28B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4A90-5CCD-4EF5-8FB7-EB4017D9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9AC88-E7B7-4A00-A04B-DB8BA88A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A290E-BE9C-4158-9387-A21CBB3C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F9F3C5-A92E-494E-9C73-3D5EA28D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41F691-453B-42B7-8182-0DCBFA1D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F9FF3-B0AC-486C-8F5C-3D110C4B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D6A313-7AB0-48A3-9FA6-18401271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015F93-70D7-4EEC-96D9-5B891DEC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E3299D-B8AA-486A-9F1B-D92DD363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B5865D-14FD-4CED-8932-6507AC3E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7B22E1-C5B2-4569-A91C-47D9E55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91B6-C929-4573-8F56-DAEA26D3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470409-1C6C-4AEC-A033-23445EC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8EE0AD-3BE5-47BE-99CA-A4C0DC66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1CE0F5-B824-4A8C-8DC2-807229B8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59E9-B835-49DA-989C-CD332638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2BBDA-3701-4C3C-A5CD-E75A1BF6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F041-36F2-42B8-B9FF-8CCB4F5C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9F7D-68AB-427E-BF9E-CCDFA8FB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43C-61A5-4E96-A769-05EAC215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C684-5509-439F-9741-61041BB1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0187-8BE1-470B-8796-DCA43421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1230-25B6-4FF7-BC08-A49DFBE1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CB958-2286-43C4-A528-55AC6684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D0F2-B9BF-40A7-80A8-430EEE4C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3EAC-F403-4FA5-B958-F6B8C808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CFA30-07AF-4CA0-B70D-90170DD1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44D2-21AF-4E27-B7AA-F2FF63FE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3C00-B7FB-4E9C-AED9-9346DAB2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AF02-6A68-4692-BE71-D75615D7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1A6-DF6B-4CC5-9C2A-5A68ED4A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15D0-A9A5-4A30-A29D-D0CAA851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1394-076C-4FBE-ADA1-B58C87B7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32476-1BD5-4FD7-9903-D297F2F5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42143-0509-43FE-9105-0B963204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BBA2-F31B-4C16-975A-52EE41B3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2399-A86E-4A29-A3F1-A8B43F5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E080-016B-4346-82CB-6DD28855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6AA73-1E70-434C-A0D5-7766893D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FB75-E9E7-4E7B-9D5D-C63DA4F7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A4DED-B1F5-4600-A135-7AD41835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B3F-3EDD-4221-B52A-651EF2A8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FD5AC-252D-4427-B88B-032644D0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F9F7-9E6D-4ADB-B2DE-08F5D0F5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6D154-82FE-4925-9430-31E76AD2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EDC5-681F-4335-946F-D37B2D32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2CC69-A8EE-4D40-8A58-2E23F5E3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CF202-0DA4-4AE3-B458-30E629D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7C37F-209C-488D-895C-B23A893C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749DA-61F1-4791-A16E-FDA44177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C4B60-D908-42CF-9C59-78D5A1B2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651AB-C6CB-41A6-AD0D-0183E34F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A2E-0B57-4F43-9E9A-4767D3B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72EB-A76C-485F-BC11-F3765FD0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0B956-9251-4255-A149-D50F9B77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975DC-473B-452D-9BEB-74189ABE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232F5-4A5C-4DEE-9A5F-8E401051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975DF-A169-43B1-83D7-0107BCC6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8D939-767E-416B-A31B-03FF214D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3D518-783A-40CB-8FCD-C83FEBF0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E96D3-0881-400F-8A27-CFD9CC18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DC5F1-2A3D-4A06-966A-4A803467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7670-8EBF-4AD8-9277-380A3ADA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ACD-6905-418B-89AE-6C3DF11A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A4C13-35FD-4B70-B688-211ACA82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C0955-0113-47E0-8802-4ECC9FAB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48626-160F-4691-B9F5-2E9730DF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D206-59A2-4129-AE2A-2AC57B82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70920-E5D1-4C56-A3B4-4F7F09B1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BE47A-1321-4FD8-9FD6-3514FC31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BA0A7-2E2E-47EF-BF39-A7AA7B42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4E88-5C0B-4935-A524-1ACC7B47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60A73-0805-4FA1-B327-A5231C58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24B74-79DD-464C-9767-9EEACCE5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B1B-8DC0-4EEF-94AD-A1F258E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1EE50-D92C-4CB2-84DE-55FB51D9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4C868-4BF5-47E3-B5D2-8DBE902F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2BD8F-0233-4CA3-98EB-1C95D2CF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E5097-A691-4F45-BFBA-DDAD06EE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0A5D5-EE9A-4E57-A8C5-E7DE2981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0210B-EE01-4C10-AFE7-211F415D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EF2A5-704F-499F-BFE0-B778244C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300B5-1F88-4831-98AB-6A2E50D9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5ED05-56A2-43B2-9E88-6898F15E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0944B-80DE-4A0B-AA1C-840712A4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8D7-E87D-4C4F-A440-77EEB720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D6022-4676-4725-A0B8-3091567F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20CBA-069E-4030-801C-46C19F1F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BF68F-FC8B-4DE8-9BB8-78860932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F11A4-1C6D-4E62-BB66-AC1802AC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DD5F6-B9C2-48D7-96FA-321B79CE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8E80F-C9E0-4DEE-9031-17A3FF87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DA818-7B9E-4FD7-94E8-C13A99AD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E88AB-0716-447E-AA62-A6E1A5B1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68E09-0D49-4000-845E-4D0E71DD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96BBE-2AF5-4146-BB9F-7D838710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ADC9-EB6B-47F6-84C9-49A367145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7D19-4A82-427D-851F-9A49039E37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9F80-0977-40CC-B82C-8DE22EF33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2A94-526F-45AA-8335-287F9754D5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DCD5-EE06-41DA-84E7-804ADD1D80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7BA3-F578-4D49-B133-E399AB8443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957C-9E5B-415D-8705-399BBA143A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5EF6-3562-4C88-BEC5-735158CB0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A2D0-F345-47BB-B9A5-0279F02113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B9B9-277F-46B6-90FC-B0B625A3DB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5F11-3F3A-41D6-ABB6-33E2A40EF2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555E-67AA-4EB0-83F9-ED56815AE6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E3CD-4B16-40A3-B99B-9782B286FD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7515-A85D-4EE0-9EA1-13BF12C2F1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4AB0-E192-4AB5-A7FD-4554CEE60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0508-3BB0-4194-9AD0-EC62C537D8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EC5F-2117-492B-9DE2-796D30D78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212D-B813-43A5-858A-7360B5ED8A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0382-BCEE-4688-8A14-6B1D0AB3F1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9A7D-02D3-40EC-ADCD-1CEC00982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676A-C2CF-4EDF-BD30-1DAF51A0BF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42EC-C13B-4743-943A-8377D23F3B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06E-2E9E-43F0-8DAA-D540D8A53B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D9E6-3B95-4E7B-9E04-86AD4579AD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439D-743C-483A-9FBA-5C7AAECF67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DD9D-F798-43E2-990F-84667DBBEA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FE83-3562-4EA8-A594-92DEEF6BA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7FD4-4A25-4774-9A1C-BBED0D109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61CF-2B34-4D54-B3F6-F1D4EF6750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27FC-B27E-48FF-9B8E-0E98FBA5BA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C501-0E67-4C29-B911-E0C69F2089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52F8-1854-49DA-8F74-CB46C49752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2E85-876D-4756-940B-91A3F83E4F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7B8C-EFFC-4309-8C50-3606FA0320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D899-92C3-48F8-9D65-AA52E7E17C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C2E4-8F35-4011-8902-DB15C549F4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CD82-6707-4AAD-A0CC-E16CFE8D4B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867C-E320-4554-8B2A-1B957F2C18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CFED-6FB8-475F-AE0A-E904C8AA5B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B79D-8339-43E3-BC0D-EE937003CC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345960" y="2622600"/>
            <a:ext cx="8307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98280" y="961920"/>
            <a:ext cx="8947440" cy="5191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01200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16000" y="38322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084720" y="3860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15920" y="1685880"/>
            <a:ext cx="8913960" cy="34862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-3240" y="1171440"/>
            <a:ext cx="9151920" cy="4515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971640" y="1685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042920" y="43657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123840" y="1604880"/>
            <a:ext cx="8896320" cy="36482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503280" cy="3603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042920" y="2982960"/>
            <a:ext cx="503280" cy="360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1116000" y="2536920"/>
            <a:ext cx="503280" cy="360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042920" y="4278240"/>
            <a:ext cx="503280" cy="360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042920" y="3846600"/>
            <a:ext cx="5032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2:4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